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135F-4E3F-41FB-91BF-CE41AC862C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11F7-491D-4025-9471-8F1F9DC4BA6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севол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6592-3F3D-4DA6-A455-C2FC42B2911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13B5-EE1D-4C9D-B2DC-94A60453D7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85AA-1BD0-4418-AEDA-FF98C567ED4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0C5A-C8DD-465C-A26A-28D72020AB0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7BE9-372E-43B7-B4CB-BC2B878CD89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8209-A710-4958-B8F3-2E0031327C3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с докуме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95 и познакомьтесь с документ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98B-31B6-4B0D-B68A-F60919B0E6A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95 и запишите слова в словар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A657-5511-4923-A18F-D169B35A3E3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ём 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на стр. 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F455-9929-48E8-A820-D29640529E8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князьями и их поли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главными политическими центрами Рус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особенности в их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е анализировать. сравнивать, обобщать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B5DF-47AC-4617-BD0F-F549B309635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1, вопросы, записи, задания в рабочей тетра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5BF2-93F7-4E3C-8D7C-3F27395648C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 Любечском съезде князей и о принятых на нём  ре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Владимира Моном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последствия феодальной раздробленност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25A0-78B6-40E3-8B56-A94CCF52F9F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Долгорук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0DBC-6AA4-4E7C-9BA1-C09B194531F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Юрия Долгору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45D2-D96F-43BC-A80F-783B78AF960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ник Юрию Долгорукому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281A-2FD2-4745-937F-117E1B6A526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Боголюб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2FC3-6588-41F6-B360-EF1B40165DB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Андрея Боголюб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7F21-D03C-49F1-AC3C-A868B1A1E6F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волод « Большое Гнезд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086D-3C98-470D-8852-34D6C3EC5EF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DFF-56F8-42C3-A6E3-72DFA84F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99B-F8EB-4925-856B-740E1B13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4FD-AFCA-45EC-A14F-2FCC0545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20A-2396-475A-8F5A-B6901A5E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DDAB-9DD8-4B6F-810A-9D88C8E1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65C7-DE11-4E93-B894-97F0F635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2BD0-098A-4358-AA38-091D62AC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9565-72FF-4FC6-9242-248A35DA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1E09-DCE4-4EB6-B9F4-EFCD2EF2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2ECD-5287-4555-9E20-7D55DF64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57D4-9B0C-4D62-8B39-9EAC15BC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7DB-6E18-4BB3-AABB-6438BEF0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4CE6-0A9E-4C85-AA7F-36428018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FEB1-A23E-4608-B7F9-BA4A73C8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3767-A940-4196-B8FB-32DD11EB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3360-CB56-4940-9A9D-5777C300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242D-CE1B-4FB7-A14D-4660AFF6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CB7-731B-4348-8B17-A3E62F51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6AD-FF78-4742-8C3F-14B8C792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A66-4176-4358-8A4E-DD65DD2B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E26-223C-4ACC-9E7A-07EBAB85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BAF-6A07-4219-B2C9-A7D96F8E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029-197E-49E0-9C9B-88F5DE42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F80-B44F-49FC-B7AA-A5791C9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A788-85B0-4F90-9665-9C498FEB3D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33F8-C2BF-4A4F-8368-43C3917F08D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chka.gerodot.ru/rus-orda/img/02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357720" y="5357880"/>
            <a:ext cx="528624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Всеволод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700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6" descr="http://im8-tub-ru.yandex.net/i?id=263405097-00-72"/>
          <p:cNvPicPr/>
          <p:nvPr/>
        </p:nvPicPr>
        <p:blipFill>
          <a:blip r:embed="rId1"/>
          <a:stretch/>
        </p:blipFill>
        <p:spPr>
          <a:xfrm>
            <a:off x="1000080" y="19288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5-tub-ru.yandex.net/i?id=256084085-20-72"/>
          <p:cNvPicPr/>
          <p:nvPr/>
        </p:nvPicPr>
        <p:blipFill>
          <a:blip r:embed="rId2"/>
          <a:stretch/>
        </p:blipFill>
        <p:spPr>
          <a:xfrm>
            <a:off x="5357880" y="357192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1857240" y="1285920"/>
            <a:ext cx="5500800" cy="5713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 – Народное собр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53964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Посадни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е должнос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. Ведал су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334800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Влад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епископ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ал церковны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ми, казно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нешн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6156360" y="2781360"/>
            <a:ext cx="230328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Княз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догов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ойск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енное время. 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л права вмеши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ься в управ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68360" y="5084640"/>
            <a:ext cx="2449440" cy="1440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Тысяц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ник посад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ил за сбор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, руководи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лче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55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1619280" y="2349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161928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0"/>
          <p:cNvSpPr/>
          <p:nvPr/>
        </p:nvSpPr>
        <p:spPr>
          <a:xfrm>
            <a:off x="745164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61"/>
          <p:cNvSpPr/>
          <p:nvPr/>
        </p:nvSpPr>
        <p:spPr>
          <a:xfrm>
            <a:off x="457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Picture 3" descr="http://tsn.tikhomirov.org/Fotki/NY2005/IMG_3350L.jpg"/>
          <p:cNvPicPr/>
          <p:nvPr/>
        </p:nvPicPr>
        <p:blipFill>
          <a:blip r:embed="rId1"/>
          <a:stretch/>
        </p:blipFill>
        <p:spPr>
          <a:xfrm>
            <a:off x="428760" y="1857240"/>
            <a:ext cx="37652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://im2-tub-ru.yandex.net/i?id=75083993-10-72"/>
          <p:cNvPicPr/>
          <p:nvPr/>
        </p:nvPicPr>
        <p:blipFill>
          <a:blip r:embed="rId2"/>
          <a:stretch/>
        </p:blipFill>
        <p:spPr>
          <a:xfrm>
            <a:off x="5214960" y="4000680"/>
            <a:ext cx="3357720" cy="25286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2" descr="Картинка 1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работаем с документам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 95 и познакомьтесь с документ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рмин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95 и запишите слова в словар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ведём итог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ьте на вопросы на стр. 9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князьями и их политик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главными политическими центрами Рус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вить особенности в их развит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ть умение анализировать. сравнивать, обобщать и делать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иш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раграф 11, вопросы, записи, задания в рабочей тетрад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я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кажите о Любечском съезде князей и о принятых на нём  решени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ление Владимира Монома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ы и последствия феодальной раздробленности на Рус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Юрий Долгорукий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148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7" descr="http://im5-tub-ru.yandex.net/i?id=191187147-01-72"/>
          <p:cNvPicPr/>
          <p:nvPr/>
        </p:nvPicPr>
        <p:blipFill>
          <a:blip r:embed="rId1"/>
          <a:stretch/>
        </p:blipFill>
        <p:spPr>
          <a:xfrm>
            <a:off x="2928960" y="2000160"/>
            <a:ext cx="3143160" cy="4365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Юрия Долгору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амятник Юрию Долгорукому в Москв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1957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http://fotomoskva.net.ru/imgk/693gork.jpg"/>
          <p:cNvPicPr/>
          <p:nvPr/>
        </p:nvPicPr>
        <p:blipFill>
          <a:blip r:embed="rId1"/>
          <a:stretch/>
        </p:blipFill>
        <p:spPr>
          <a:xfrm>
            <a:off x="2514600" y="21337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дрей Боголюб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577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http://chegepe.narod.ru/content2/grehopad/andr_bogo_sm.jpg"/>
          <p:cNvPicPr/>
          <p:nvPr/>
        </p:nvPicPr>
        <p:blipFill>
          <a:blip r:embed="rId1"/>
          <a:stretch/>
        </p:blipFill>
        <p:spPr>
          <a:xfrm>
            <a:off x="3122640" y="1981080"/>
            <a:ext cx="289728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Андрея Боголюбс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волод « Большое Гнезд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3814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3" descr="http://www.grigorius.narod.ru/img/history/knyaz/12_biggnezdo_m.jpg"/>
          <p:cNvPicPr/>
          <p:nvPr/>
        </p:nvPicPr>
        <p:blipFill>
          <a:blip r:embed="rId1"/>
          <a:stretch/>
        </p:blipFill>
        <p:spPr>
          <a:xfrm>
            <a:off x="2666880" y="1905120"/>
            <a:ext cx="33530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51:09Z</dcterms:modified>
  <cp:revision>9</cp:revision>
  <dc:subject/>
  <dc:title>PowerPoint Presentation</dc:title>
</cp:coreProperties>
</file>